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CA15-E4EB-42E4-81D2-B27EF9FFC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3A45-DC12-4EBD-94FE-213557C7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D88B-C1E6-418A-9E63-049C5CD47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5B2C-8A3B-47C6-9A09-63795B02D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D337-49E8-4AD1-945B-96F46A50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9921-5605-4A75-AE41-E5360611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9BAB-C9A9-4080-9E06-04E40DD9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79E5-150F-49E3-9AA6-312531FF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5AEF-945F-4FE5-988F-4D824085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198A-7D58-4FEF-A5BA-033EF6BB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E205-EECF-40E9-8417-1B7623DF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6DF1-73E5-40AB-9E3D-793A3990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AD16-1FDE-4EE5-AA74-D021B1D36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914040"/>
            <a:ext cx="8452080" cy="25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eeeee"/>
                </a:solidFill>
                <a:latin typeface="verdana"/>
              </a:rPr>
              <a:t>Chado on Rails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8840" y="2437920"/>
            <a:ext cx="9434520" cy="69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9999"/>
                </a:solidFill>
                <a:latin typeface="Trebuchet MS"/>
              </a:rPr>
              <a:t>a framework to simplify development on the Chado schem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9999"/>
                </a:solidFill>
                <a:latin typeface="Trebuchet MS"/>
              </a:rPr>
              <a:t> 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9999"/>
                </a:solidFill>
                <a:latin typeface="Trebuchet MS"/>
              </a:rPr>
              <a:t> 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9999"/>
                </a:solidFill>
                <a:latin typeface="Trebuchet MS"/>
              </a:rPr>
              <a:t> 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9999"/>
                </a:solidFill>
                <a:latin typeface="Trebuchet MS"/>
              </a:rPr>
              <a:t> </a:t>
            </a:r>
            <a:r>
              <a:rPr b="0" lang="en-US" sz="3800" spc="-1" strike="noStrike">
                <a:solidFill>
                  <a:srgbClr val="999999"/>
                </a:solidFill>
                <a:latin typeface="Trebuchet MS"/>
              </a:rPr>
              <a:t>Justin Reese / Chris Childer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trebuchet ms"/>
              </a:rPr>
              <a:t>Quick rails anatomy less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6160" y="1117080"/>
            <a:ext cx="9664560" cy="71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Model files live in: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courier new"/>
              </a:rPr>
              <a:t>trunk/app/models/[model_name].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Controller files live in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courier new"/>
              </a:rPr>
              <a:t>trunk/app/controllers/[model_name]_controller.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View files live in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courier new"/>
              </a:rPr>
              <a:t>trunk/app/views/[model_name]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One important config fil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trunk/config/database.yml - describes db con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0"/>
            <a:ext cx="9664560" cy="12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Arial"/>
              </a:rPr>
              <a:t>Legacy Chado support - things to chang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523880"/>
            <a:ext cx="9664560" cy="58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"Feature" model as an example: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in </a:t>
            </a: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trunk/app/models/feature.rb 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This line tells Chado to look for features in table "feature", not table "features"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courier new"/>
              </a:rPr>
              <a:t>set_table_name "feature"  #default is "feature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This line tells Chado to use "feature_id" not "id" as primary key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courier new"/>
              </a:rPr>
              <a:t>set_primary_key "feature_id"   # default is "id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rebuchet ms"/>
              </a:rPr>
              <a:t>Repeat for each Chado tables we will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560"/>
            <a:ext cx="96645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Arial"/>
              </a:rPr>
              <a:t>Hooking up tables to each other ("associations"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47680" y="1832040"/>
            <a:ext cx="9664560" cy="63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Feature -- belongs to --&gt; Cvter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Cvterm &lt;-- has many -- featur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Easy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in </a:t>
            </a: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trunk/app/models/feature.rb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, add thi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  </a:t>
            </a: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belongs_to :cvter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in </a:t>
            </a: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trunk/app/models/cvterm.rb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, add thi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  </a:t>
            </a: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has_many :features, :foreign_key =&gt; "type_id"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880560" cy="13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Arial"/>
              </a:rPr>
              <a:t>We now have a powerful Chado conso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7680" y="1320840"/>
            <a:ext cx="9664560" cy="69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Example: show me the name of the CV for the last thing loaded into Chado feature tab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(try out by starting up</a:t>
            </a: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 trunk/script/console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)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Before, using SQL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SELECT cv.name FROM cv, cvterm, feature WHERE cv.cv_id = cvterm.cv_id AND cvterm.cvterm_id = feature.type_id ORDER BY feature_id DESC LIMIT 1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After, using Rail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Feature.find(:last).cvterm.cv.nam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trebuchet ms"/>
              </a:rPr>
              <a:t>Example app: 5 min. Chado gene pag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6160" y="1117080"/>
            <a:ext cx="964224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cc"/>
                </a:solidFill>
                <a:uFillTx/>
                <a:latin typeface="trebuchet ms"/>
              </a:rPr>
              <a:t>model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: done alread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cc"/>
                </a:solidFill>
                <a:uFillTx/>
                <a:latin typeface="trebuchet ms"/>
              </a:rPr>
              <a:t>controller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: </a:t>
            </a:r>
            <a:r>
              <a:rPr b="0" lang="en-US" sz="2100" spc="-1" strike="noStrike">
                <a:solidFill>
                  <a:srgbClr val="cccccc"/>
                </a:solidFill>
                <a:latin typeface="trebuchet ms"/>
              </a:rPr>
              <a:t>make controller, write method to load up gene of interest into variable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cccccc"/>
                </a:solidFill>
                <a:latin typeface="trebuchet ms"/>
              </a:rPr>
              <a:t>[~/chado_on_rails/trunk] jtr4v$ ./script/generate controller gene</a:t>
            </a:r>
            <a:br>
              <a:rPr sz="1300"/>
            </a:br>
            <a:r>
              <a:rPr b="0" lang="en-US" sz="1300" spc="-1" strike="noStrike">
                <a:solidFill>
                  <a:srgbClr val="cccccc"/>
                </a:solidFill>
                <a:latin typeface="trebuchet ms"/>
              </a:rPr>
              <a:t>      exists  app/controllers/</a:t>
            </a:r>
            <a:br>
              <a:rPr sz="1300"/>
            </a:br>
            <a:r>
              <a:rPr b="0" lang="en-US" sz="1300" spc="-1" strike="noStrike">
                <a:solidFill>
                  <a:srgbClr val="cccccc"/>
                </a:solidFill>
                <a:latin typeface="trebuchet ms"/>
              </a:rPr>
              <a:t>      exists  app/helpers/</a:t>
            </a:r>
            <a:br>
              <a:rPr sz="1300"/>
            </a:br>
            <a:r>
              <a:rPr b="0" lang="en-US" sz="1300" spc="-1" strike="noStrike">
                <a:solidFill>
                  <a:srgbClr val="cccccc"/>
                </a:solidFill>
                <a:latin typeface="trebuchet ms"/>
              </a:rPr>
              <a:t>      create  app/views/gene</a:t>
            </a:r>
            <a:br>
              <a:rPr sz="1300"/>
            </a:br>
            <a:r>
              <a:rPr b="0" lang="en-US" sz="1300" spc="-1" strike="noStrike">
                <a:solidFill>
                  <a:srgbClr val="cccccc"/>
                </a:solidFill>
                <a:latin typeface="trebuchet ms"/>
              </a:rPr>
              <a:t>      exists  test/functional/</a:t>
            </a:r>
            <a:br>
              <a:rPr sz="1300"/>
            </a:br>
            <a:r>
              <a:rPr b="0" lang="en-US" sz="1300" spc="-1" strike="noStrike">
                <a:solidFill>
                  <a:srgbClr val="cccccc"/>
                </a:solidFill>
                <a:latin typeface="trebuchet ms"/>
              </a:rPr>
              <a:t>      exists  test/unit/helpers/</a:t>
            </a:r>
            <a:br>
              <a:rPr sz="1300"/>
            </a:br>
            <a:r>
              <a:rPr b="0" lang="en-US" sz="1300" spc="-1" strike="noStrike">
                <a:solidFill>
                  <a:srgbClr val="cccccc"/>
                </a:solidFill>
                <a:latin typeface="trebuchet ms"/>
              </a:rPr>
              <a:t>      create  app/controllers/gene_controller.rb</a:t>
            </a:r>
            <a:br>
              <a:rPr sz="1300"/>
            </a:br>
            <a:r>
              <a:rPr b="0" lang="en-US" sz="1300" spc="-1" strike="noStrike">
                <a:solidFill>
                  <a:srgbClr val="cccccc"/>
                </a:solidFill>
                <a:latin typeface="trebuchet ms"/>
              </a:rPr>
              <a:t>      create  test/functional/gene_controller_test.rb</a:t>
            </a:r>
            <a:br>
              <a:rPr sz="1300"/>
            </a:br>
            <a:r>
              <a:rPr b="0" lang="en-US" sz="1300" spc="-1" strike="noStrike">
                <a:solidFill>
                  <a:srgbClr val="cccccc"/>
                </a:solidFill>
                <a:latin typeface="trebuchet ms"/>
              </a:rPr>
              <a:t>      create  app/helpers/gene_helper.rb</a:t>
            </a:r>
            <a:br>
              <a:rPr sz="1300"/>
            </a:br>
            <a:r>
              <a:rPr b="0" lang="en-US" sz="1300" spc="-1" strike="noStrike">
                <a:solidFill>
                  <a:srgbClr val="cccccc"/>
                </a:solidFill>
                <a:latin typeface="trebuchet ms"/>
              </a:rPr>
              <a:t>      create  test/unit/helpers/gene_helper_test.r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cccc"/>
                </a:solidFill>
                <a:latin typeface="trebuchet ms"/>
              </a:rPr>
              <a:t>then add this to </a:t>
            </a:r>
            <a:r>
              <a:rPr b="0" lang="en-US" sz="2100" spc="-1" strike="noStrike">
                <a:solidFill>
                  <a:srgbClr val="cccccc"/>
                </a:solidFill>
                <a:latin typeface="courier new"/>
              </a:rPr>
              <a:t>trunk/app/controllers/gene_controller.rb:</a:t>
            </a:r>
            <a:r>
              <a:rPr b="0" lang="en-US" sz="21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cc"/>
                </a:solidFill>
                <a:latin typeface="courier new"/>
              </a:rPr>
              <a:t>def sho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cc"/>
                </a:solidFill>
                <a:latin typeface="courier new"/>
              </a:rPr>
              <a:t>    </a:t>
            </a:r>
            <a:r>
              <a:rPr b="0" lang="en-US" sz="1600" spc="-1" strike="noStrike">
                <a:solidFill>
                  <a:srgbClr val="cccccc"/>
                </a:solidFill>
                <a:latin typeface="courier new"/>
              </a:rPr>
              <a:t>@gene = Feature.find(params[:id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cc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cc"/>
                </a:solidFill>
                <a:latin typeface="courier new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cc"/>
                </a:solidFill>
                <a:uFillTx/>
                <a:latin typeface="trebuchet ms"/>
              </a:rPr>
              <a:t>view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: </a:t>
            </a:r>
            <a:r>
              <a:rPr b="0" lang="en-US" sz="2100" spc="-1" strike="noStrike">
                <a:solidFill>
                  <a:srgbClr val="cccccc"/>
                </a:solidFill>
                <a:latin typeface="trebuchet ms"/>
              </a:rPr>
              <a:t>add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 </a:t>
            </a:r>
            <a:r>
              <a:rPr b="0" lang="en-US" sz="2100" spc="-1" strike="noStrike">
                <a:solidFill>
                  <a:srgbClr val="cccccc"/>
                </a:solidFill>
                <a:latin typeface="courier new"/>
              </a:rPr>
              <a:t>trunk/app/views/gene/show.html.erb</a:t>
            </a:r>
            <a:r>
              <a:rPr b="0" lang="en-US" sz="2100" spc="-1" strike="noStrike">
                <a:solidFill>
                  <a:srgbClr val="cccccc"/>
                </a:solidFill>
                <a:latin typeface="trebuchet ms"/>
              </a:rPr>
              <a:t>, present some gene info to user (next slide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Arial"/>
              </a:rPr>
              <a:t>Simple view for gene pag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6160" y="1320480"/>
            <a:ext cx="9664560" cy="58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%= render :partial =&gt; 'header' %&gt;</a:t>
            </a:r>
            <a:br>
              <a:rPr sz="1900"/>
            </a:b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% if @gene.nil? %&gt;</a:t>
            </a: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There is no record for feature id &lt;%= params[:id] %&gt;</a:t>
            </a:r>
            <a:br>
              <a:rPr sz="1900"/>
            </a:b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% else %&gt;</a:t>
            </a: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ul&gt;</a:t>
            </a: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li&gt;Name: &lt;%= @gene.name %&gt;&lt;/li&gt;</a:t>
            </a: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li&gt;Uniquename: &lt;%= @gene.uniquename %&gt;&lt;/li&gt;</a:t>
            </a: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li&gt;Feature id: &lt;%= @gene.feature_id %&gt;&lt;/li&gt;</a:t>
            </a: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li&gt;Cvterm: &lt;%= @gene.cvterm.name %&gt;&lt;/li&gt;</a:t>
            </a: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li&gt;Organism: &lt;%= "#{@gene.organism.genus} #{@gene.organism.species}" %&gt;&lt;/li&gt;</a:t>
            </a: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li&gt;Time last modified: &lt;%= @gene.timelastmodified %&gt;&lt;/li&gt; </a:t>
            </a: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/ul&gt;</a:t>
            </a:r>
            <a:br>
              <a:rPr sz="1900"/>
            </a:b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% end %&gt;</a:t>
            </a:r>
            <a:br>
              <a:rPr sz="1900"/>
            </a:b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br/&gt;</a:t>
            </a: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%= render :partial =&gt; 'footer' %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101520"/>
            <a:ext cx="9664560" cy="12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Arial"/>
              </a:rPr>
              <a:t>Chado on Rails + Chado db + 19 lines of code = gene pages!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01520" y="2844720"/>
            <a:ext cx="9925200" cy="65833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881360" y="1622520"/>
            <a:ext cx="79214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http://0.0.0.0:3000/gene/show/17030045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7680" y="101160"/>
            <a:ext cx="9671040" cy="9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Arial"/>
              </a:rPr>
              <a:t>Mature BGD genes pag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7680" y="1320840"/>
            <a:ext cx="9664560" cy="54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cccc"/>
                </a:solidFill>
                <a:latin typeface="trebuchet ms"/>
              </a:rPr>
              <a:t>http://genomes.arc.georgetown.edu/bovine/genepages/genes/BT10609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06440" y="18288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7680" y="202680"/>
            <a:ext cx="9671040" cy="9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trebuchet ms"/>
              </a:rPr>
              <a:t>Test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7680" y="1112400"/>
            <a:ext cx="978696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Rails ships with sophisticated testing suite (a whole other talk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Chado on Rails contains unit tests for associations, other reality check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Easy to add more sophisticated tests (functional, etc.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</a:t>
            </a: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rake 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7680" y="4064040"/>
            <a:ext cx="9671040" cy="6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trebuchet ms"/>
              </a:rPr>
              <a:t>Cach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8840" y="5181480"/>
            <a:ext cx="9320040" cy="14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Add one line in controller to cache gene pages: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cccc"/>
                </a:solidFill>
                <a:latin typeface="courier new"/>
              </a:rPr>
              <a:t>  </a:t>
            </a:r>
            <a:r>
              <a:rPr b="0" lang="en-US" sz="2100" spc="-1" strike="noStrike">
                <a:solidFill>
                  <a:srgbClr val="cccccc"/>
                </a:solidFill>
                <a:latin typeface="courier new"/>
              </a:rPr>
              <a:t>caches_page :show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cccc"/>
                </a:solidFill>
                <a:latin typeface="trebuchet ms"/>
              </a:rPr>
              <a:t>-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 More sophisticated caching (expire cache after x days, caching expensive queries, etc.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trebuchet ms"/>
              </a:rPr>
              <a:t>Deployment - a non-issu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Used to be a major weakness of Rail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Passenger Phusion + Capistrano provide dead-easy deployment, plays nicely with Apache and Nginx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Fairly easy to set up staging environments to try out new releas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6160" y="406080"/>
            <a:ext cx="967104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trebuchet ms"/>
              </a:rPr>
              <a:t>Some links: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726920"/>
            <a:ext cx="10212480" cy="56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These sli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courier new"/>
              </a:rPr>
              <a:t>http://tinyurl.com/chadoonr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Source code, have a loo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2400" spc="-1" strike="noStrike">
                <a:solidFill>
                  <a:srgbClr val="cccccc"/>
                </a:solidFill>
                <a:latin typeface="courier new"/>
              </a:rPr>
              <a:t>svn co http://chadoonrails.rubyforge.org/svn/trunk</a:t>
            </a:r>
            <a:r>
              <a:rPr b="0" lang="en-US" sz="2900" spc="-1" strike="noStrike">
                <a:solidFill>
                  <a:srgbClr val="cccccc"/>
                </a:solidFill>
                <a:latin typeface="courier new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Arial"/>
              </a:rPr>
              <a:t>Other applications   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47680" y="1523880"/>
            <a:ext cx="96710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- Powerful framework for the development of applications on top of Cha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- Ideas for possible application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- Help available from me, Chris, Rails community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- http://rubyforge.org/projects/chadoonrails/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(there's another dead project by the same nam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- Justin Rees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justaddcoffee@gmail.com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- Chris Childer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genetics.guy@gmail.co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Arial"/>
              </a:rPr>
              <a:t>Thanks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178000" y="1828800"/>
            <a:ext cx="96616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Chris Child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Chris Elsi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Jay Sundaram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Darren Hag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Monica Mu</a:t>
            </a:r>
            <a:r>
              <a:rPr b="0" i="1" lang="en-US" sz="2700" spc="-1" strike="noStrike">
                <a:solidFill>
                  <a:srgbClr val="cccccc"/>
                </a:solidFill>
                <a:latin typeface="Arial"/>
              </a:rPr>
              <a:t>ñoz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-Torre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Steve Sh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Anna Bennet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Shu Ta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Don V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trebuchet ms"/>
              </a:rPr>
              <a:t>The Big Idea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7680" y="1320840"/>
            <a:ext cx="9680400" cy="60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          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Chado database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(de facto standard in bioinformatics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                        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| 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                        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|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                        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|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                       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\ /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            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Chado on Rail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                        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|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                        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|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                        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|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                       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\ /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           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Your application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(gene pages, GFF loader, anything that needs to talk to Cha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6160" y="203040"/>
            <a:ext cx="9671040" cy="9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eeeeee"/>
                </a:solidFill>
                <a:latin typeface="Trebuchet MS"/>
              </a:rPr>
              <a:t>This time last year...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6080" y="1108080"/>
            <a:ext cx="9657000" cy="61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Bovine Genome Database status talk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ccccc"/>
                </a:solidFill>
                <a:uFillTx/>
                <a:latin typeface="Trebuchet MS"/>
              </a:rPr>
              <a:t>no gene pag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727280" y="1727280"/>
            <a:ext cx="628632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eeeeee"/>
                </a:solidFill>
                <a:latin typeface="Trebuchet MS"/>
              </a:rPr>
              <a:t>How to implement gene pages?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- couldn't find existing tool that fit our n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- why not roll our own?</a:t>
            </a:r>
            <a:br>
              <a:rPr sz="3200"/>
            </a:b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- why not use Ruby on Rail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7680" y="203040"/>
            <a:ext cx="9672480" cy="9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eeeeee"/>
                </a:solidFill>
                <a:latin typeface="Trebuchet MS"/>
              </a:rPr>
              <a:t>The case for Ruby on Rails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280" y="1117080"/>
            <a:ext cx="10109520" cy="64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implement object-relational mapping for Chado database schema as legacy schem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what we then get for fre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  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Mature MVC framework for fast web development on top of  Cha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 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Rake tasks (a powerful tool for automating tasks)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 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Capistrano (another powerful tool for deployment, automating tasks)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 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Powerful debugging (stop request in stack wherever you want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 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Sophisticated testing sui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 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Much more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BGD, Beebase, HymenopteraBase, other groups can build on thi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trebuchet ms"/>
              </a:rPr>
              <a:t>Rub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7680" y="1219320"/>
            <a:ext cx="966312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"Perl's younger prettier sister"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syntactic sugar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, easy metaprogramming, pure object-oriented language, other sundry awesomene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A great 15 minute tutorial:</a:t>
            </a:r>
            <a:br>
              <a:rPr sz="2700"/>
            </a:b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http://tryruby.org/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A funny, longer tutorial:</a:t>
            </a:r>
            <a:br>
              <a:rPr sz="2700"/>
            </a:b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http://mislav.uniqpath.com/poignant-guide/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trebuchet ms"/>
              </a:rPr>
              <a:t>Rails legacy database suppor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7680" y="1219320"/>
            <a:ext cx="9672480" cy="547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Rails paradigm: "convention over configuration"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e.g. Model name "Feature" == table name "feature</a:t>
            </a:r>
            <a:r>
              <a:rPr b="1" lang="en-US" sz="2700" spc="-1" strike="noStrike" u="sng">
                <a:solidFill>
                  <a:srgbClr val="cccccc"/>
                </a:solidFill>
                <a:uFillTx/>
                <a:latin typeface="trebuchet ms"/>
              </a:rPr>
              <a:t>s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"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Chado doesn't follow Rails conven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e.g. Feature model == Chado table name "feature"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Legacy support for Chado means overriding these conventions, explaining to Rails how to talk to Cha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trebuchet ms"/>
              </a:rPr>
              <a:t>MVC paradig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828800" y="1320840"/>
            <a:ext cx="6377040" cy="3716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4280" y="4673520"/>
            <a:ext cx="1020780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cccc"/>
                </a:solidFill>
                <a:latin typeface="trebuchet ms"/>
              </a:rPr>
              <a:t>Model - the representation of your data (doesn't change much after development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cccc"/>
                </a:solidFill>
                <a:latin typeface="trebuchet ms"/>
              </a:rPr>
              <a:t> 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cccc"/>
                </a:solidFill>
                <a:latin typeface="trebuchet ms"/>
              </a:rPr>
              <a:t>Controller</a:t>
            </a:r>
            <a:r>
              <a:rPr b="0" lang="en-US" sz="1900" spc="-1" strike="noStrike">
                <a:solidFill>
                  <a:srgbClr val="cccccc"/>
                </a:solidFill>
                <a:latin typeface="trebuchet ms"/>
              </a:rPr>
              <a:t> - "business logic", i.e. the logic to retrieve and process information coming and going from view (changes more seldom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cccc"/>
                </a:solidFill>
                <a:latin typeface="trebuchet ms"/>
              </a:rPr>
              <a:t>View</a:t>
            </a:r>
            <a:r>
              <a:rPr b="0" lang="en-US" sz="1900" spc="-1" strike="noStrike">
                <a:solidFill>
                  <a:srgbClr val="cccccc"/>
                </a:solidFill>
                <a:latin typeface="trebuchet ms"/>
              </a:rPr>
              <a:t> - presentation of information to user (changes every 3 seconds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